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AVISO.WAV" ContentType="audio/x-wav"/>
  <Override PartName="/ppt/media/DIAPO.WAV" ContentType="audio/x-wav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2FCD-6BBE-47EB-B0F5-3E2A67E830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BD03-A26B-4BA2-AFA6-63908EB2C0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B7B-BB50-486F-BD61-C777DFF037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FD15-F7FC-452E-9477-6C440DCC9B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FDE3-96CA-4EC9-8D70-4D53444F64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F083-5056-4632-8F40-D93E5EC3D8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17C7-14FE-4948-AC90-0C9723310E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9002-2CD2-4A2A-A827-8BA2D1A61A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1E48-7A91-40BB-B3B2-D3BB256BAA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4359-04F2-4A44-91C9-06657BDD23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6938-847E-4488-82AE-59F8DAB1DE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5BA5-3FF5-4E3B-973E-DD0BEAECBC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9DDC-4A33-4ACE-AB61-73894B1C74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B06B-14C2-4324-917C-5F4386130D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C320-634E-40EF-8F05-97DDBB5F32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D0BF-9A1C-47E7-995F-3F2CBE68A4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3E91-DD83-4863-97A2-936CE8D073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8501-68C6-4046-9880-D0E1A8C9A0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67B7-3993-41FE-BA81-68DF18EDC3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57FE-FB51-4F86-BDD9-C783E3A43F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0A67-7413-49AB-BB55-95D8F8CDCF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02F-7E99-4587-91D9-232970A9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7E3-1ADC-435A-BCB1-DDBD3B49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B22-D63F-4F5F-B801-D289A2B91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8777-10AD-4C71-8DC3-A86996B8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55DB-75D5-49E1-8006-911B37C39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7736-C5C5-4109-B6DE-B62A23E3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2A68-EA36-4AE0-B757-F9835A71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309C-B4D4-4C4C-9543-3E902C24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8B20-26D3-49B5-99FD-E542FB36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B9F1-24A9-4CCF-B86F-2711D57D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F726-E217-4676-84AB-1476CC40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58D0-73A0-4E62-AA11-31531F14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4F8A-5716-4738-8402-75952C15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F1A4-F359-46EB-AB06-234B6082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683D-DE9D-462A-82BB-1915CCA7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11D1-BE65-46D5-905F-3CED6EF4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2D10-15B5-4697-B11B-E75EBD6A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F39-C36A-41FE-8877-7EE4222E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04D-CA2C-4442-A596-F5A9E2A7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170-905B-484E-AA41-38A02AD7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23B-0FCE-4D7B-BA00-231C6F99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6A1-1750-4D8B-A5EC-6CDD26C9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A46-D8D1-4A7C-B119-CD4257BC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87F-E880-4C0B-A25D-96C2AB5B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EDCA-6DAE-4378-9318-7AD4580A5ECF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4F20-46F4-45BD-BD75-857605780705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IAPO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IAP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VISO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11280" y="2205000"/>
            <a:ext cx="792144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	</a:t>
            </a: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UNIVERSIDAD RICARDO PALMA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      </a:t>
            </a: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	</a:t>
            </a:r>
            <a:r>
              <a:rPr b="1" lang="es-MX" sz="3200" spc="-1" strike="noStrike">
                <a:solidFill>
                  <a:srgbClr val="a50021"/>
                </a:solidFill>
                <a:latin typeface="Century Gothic"/>
              </a:rPr>
              <a:t>ESCUELA DE POSTGRADO</a:t>
            </a:r>
            <a:br>
              <a:rPr sz="2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3200"/>
            </a:br>
            <a:r>
              <a:rPr b="1" lang="es-MX" sz="3200" spc="-1" strike="noStrike" u="sng">
                <a:solidFill>
                  <a:srgbClr val="000099"/>
                </a:solidFill>
                <a:uFillTx/>
                <a:latin typeface="Trebuchet MS"/>
              </a:rPr>
              <a:t>PSICOLOGÍA  EDUCATIVA</a:t>
            </a:r>
            <a:br>
              <a:rPr sz="3200"/>
            </a:b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UNIDAD  V</a:t>
            </a:r>
            <a:br>
              <a:rPr sz="3200"/>
            </a:br>
            <a:r>
              <a:rPr b="1" lang="es-MX" sz="3200" spc="-1" strike="noStrike">
                <a:solidFill>
                  <a:srgbClr val="a50021"/>
                </a:solidFill>
                <a:latin typeface="Trebuchet MS"/>
              </a:rPr>
              <a:t>RESULTADOS DEL PROCESO ENSEÑANZA APRENDIZAJE</a:t>
            </a:r>
            <a:br>
              <a:rPr sz="3200"/>
            </a:br>
            <a:br>
              <a:rPr sz="3200"/>
            </a:b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Profesor: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1" lang="es-MX" sz="2800" spc="-1" strike="noStrike">
                <a:solidFill>
                  <a:srgbClr val="000099"/>
                </a:solidFill>
                <a:latin typeface="Georgia"/>
              </a:rPr>
              <a:t>Dr. José Anicama G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Picture 4" descr="ilutracion_edustance"/>
          <p:cNvPicPr/>
          <p:nvPr/>
        </p:nvPicPr>
        <p:blipFill>
          <a:blip r:embed="rId1"/>
          <a:stretch/>
        </p:blipFill>
        <p:spPr>
          <a:xfrm>
            <a:off x="0" y="-27000"/>
            <a:ext cx="1547640" cy="2879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457200" y="533520"/>
            <a:ext cx="8229600" cy="60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Tahoma"/>
              </a:rPr>
              <a:t>4.  Destrezas Mot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Son las habilidades que permiten  las actividades motoras organizadas: pronunciar el sonido de las letras, manejar un computador, utilizar instrumentos  (ej.  Instrumental  médico),  usar  equipos  de laboratorio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e tipo de resultado implica 5 tipos de aprendizaj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Reacción ante una señ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ímulo - respue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caden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Asociación verb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Discrimin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57200" y="549360"/>
            <a:ext cx="80773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Tahoma"/>
              </a:rPr>
              <a:t>5.  Actitu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e  tipo de  resultado  del  aprendizaje implica,   los  cambios  en  las  actitudes, en las creencias,  en los valores  y  en las preferencias de los estudiant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Implica también todos los componentes afec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e tipo de resultado implica los tipos de  aprendizaje  1,  2,  3,  4  y  5, tal como se señalan  en  el siguiente esqu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 también denominado por otros autores como dominio afectivo o emocional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97164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DIAPO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PE" sz="1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800000"/>
                </a:solidFill>
                <a:latin typeface="Tahoma"/>
              </a:rPr>
              <a:t>PRESENTACIÓN PRÁCTICA 1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800000"/>
                </a:solidFill>
                <a:latin typeface="Tahoma"/>
              </a:rPr>
              <a:t>EJERCICIO APLICATIVO</a:t>
            </a:r>
            <a:r>
              <a:rPr b="1" lang="es-PE" sz="1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382240" cy="1218960"/>
          </a:xfrm>
          <a:prstGeom prst="rect">
            <a:avLst/>
          </a:prstGeom>
          <a:solidFill>
            <a:srgbClr val="f8f8f8"/>
          </a:solidFill>
          <a:ln w="3168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198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Objetivo 1: Seleccione Ud. un tema para una clase o conferencia que  desea ofrecer y planifique dicha clase teniendo en cuenta las siguientes pregun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5053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1. ¿Qué variedades de resultados del aprendizaje estarían probablemente involucrados en este tema?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cribir objetivos específicos de aprendizaje para dicho tema y variedad de aprendiza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82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3399"/>
                </a:solidFill>
                <a:latin typeface="Tahoma"/>
              </a:rPr>
              <a:t>Tema: CÁNCER DE VESÍCULA BILIA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876312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1.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A nivel de Información Verb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Objetivo.- Al finalizar el curso el  médico participant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será capaz de identificar los siguientes términ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a) Vesícula bilia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i) Resonancia magnét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b) Adenocarcinoma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j) Colangiograf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c) Carcinoma tubula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k) PC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d) Carcinoma papila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l) Metást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e) Carcinoma nodular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ll) Tratamiento pali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f) Ganglio linfático regional  (m) Resección quirúrgica        (g) Colelitiasis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n) Quimioterap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(h) Tomografía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   (ñ)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oterap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2.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A nivel de Habilidades Intelectu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Objetivo.- Al finalizar el curso el médico participante ser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capaz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Determina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la etiología del cáncer de vesícula bili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Discrimina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la etapa en que se encuentra el cáncer 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esícula bili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.1 Localizado       b.2 Irresecable       b.3 Recurr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Discriminar y analiza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los diferentes estadíos de la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nfermedad, según Nevin; Estadío I (Mucosa), Estadí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I (Muscularis),  Estadío III (Serosa),  Estadío IV (Inva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ión hepática),  Estadío  V (Invasión a otros órgano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d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lasifica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la  profundidad  del   tumor,  los  ganglio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omados y la metástasis tumo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(e)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Diagnosticar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la enfermedad mediante la  ecografía,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omografía, resonancia magnética y colangiograf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3.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A nivel de Estrategias Cognosciti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Objetivo.- Al finalizar curso  el  médico  participa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333300"/>
                </a:solidFill>
                <a:latin typeface="Arial"/>
              </a:rPr>
              <a:t>será capaz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 u="sng">
                <a:solidFill>
                  <a:srgbClr val="080808"/>
                </a:solidFill>
                <a:uFillTx/>
                <a:latin typeface="Arial"/>
              </a:rPr>
              <a:t>Elegir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de manera original,  según la estadificación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clasificación del cáncer de vesícula biliar y ayud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por el resultado anatomopatológico;  el  trata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adecuado  según  el  estado  del  paciente,   ya  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sólo   paliativo   por  la toma  de   ganglios   y  ot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órganos, o  sea  curativo por  ser  incipiente  en  s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descubrimiento   y   sólo   necesitar  una  resec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para errad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80808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915400" cy="62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80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4.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990033"/>
                </a:solidFill>
                <a:latin typeface="Arial"/>
              </a:rPr>
              <a:t> A nivel de Destrezas Moto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0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MX" sz="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8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Objetivo.-  Al  finalizar  el curso  el  médico  participan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80808"/>
                </a:solidFill>
                <a:latin typeface="Arial"/>
              </a:rPr>
              <a:t>será capaz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(a) </a:t>
            </a:r>
            <a:r>
              <a:rPr b="1" lang="es-MX" sz="2400" spc="-1" strike="noStrike" u="sng">
                <a:solidFill>
                  <a:srgbClr val="003300"/>
                </a:solidFill>
                <a:uFillTx/>
                <a:latin typeface="Arial"/>
              </a:rPr>
              <a:t>Ejecut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una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irugí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para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alivi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lo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síntoma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,  s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el cáncer se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h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diseminado y no puede se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elim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in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(b) </a:t>
            </a:r>
            <a:r>
              <a:rPr b="1" lang="es-MX" sz="2400" spc="-1" strike="noStrike" u="sng">
                <a:solidFill>
                  <a:srgbClr val="003300"/>
                </a:solidFill>
                <a:uFillTx/>
                <a:latin typeface="Arial"/>
              </a:rPr>
              <a:t>Ejecut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una cirugía con el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fin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de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esquiv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(bypa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el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ánce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,  s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é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t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e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bloque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lo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onductos biliare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bilis se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acumula en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vesícu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bili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.   Para  ello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cor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tará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vesícu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biliar, o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c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onducto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biliar,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y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oserá al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i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ntestino delgado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(c)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También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podrá </a:t>
            </a:r>
            <a:r>
              <a:rPr b="1" lang="es-MX" sz="2400" spc="-1" strike="noStrike" u="sng">
                <a:solidFill>
                  <a:srgbClr val="003300"/>
                </a:solidFill>
                <a:uFillTx/>
                <a:latin typeface="Arial"/>
              </a:rPr>
              <a:t>ejecutar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una cirugía u otro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cedi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miento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par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pone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un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tubo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(catéter)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ara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ha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salir 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drenar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)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la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bilis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que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se</a:t>
            </a: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 ha acumulado en 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80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00"/>
                </a:solidFill>
                <a:latin typeface="Arial"/>
              </a:rPr>
              <a:t>             </a:t>
            </a: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áre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000" y="685440"/>
            <a:ext cx="8280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990033"/>
                </a:solidFill>
                <a:latin typeface="Tahoma"/>
              </a:rPr>
              <a:t>5.</a:t>
            </a:r>
            <a:r>
              <a:rPr b="1" lang="es-MX" sz="3200" spc="-1" strike="noStrike">
                <a:solidFill>
                  <a:srgbClr val="990033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990033"/>
                </a:solidFill>
                <a:latin typeface="Tahoma"/>
              </a:rPr>
              <a:t>A nivel de Actitu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00"/>
                </a:solidFill>
                <a:latin typeface="Tahoma"/>
              </a:rPr>
              <a:t>      </a:t>
            </a:r>
            <a:r>
              <a:rPr b="1" lang="es-MX" sz="2800" spc="-1" strike="noStrike">
                <a:solidFill>
                  <a:srgbClr val="333300"/>
                </a:solidFill>
                <a:latin typeface="Tahoma"/>
              </a:rPr>
              <a:t>Objetivo.- Al finalizar el curso el médico         participante será capaz d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00"/>
                </a:solidFill>
                <a:latin typeface="Tahoma"/>
              </a:rPr>
              <a:t>       </a:t>
            </a: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Valorar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 el  diagnóstico  temprano   del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áncer  de  vesícula biliar,  p</a:t>
            </a:r>
            <a:r>
              <a:rPr b="1" lang="es-P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esto  qu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1" lang="es-P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éste  es un  cáncer raro y no se cono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</a:t>
            </a:r>
            <a:r>
              <a:rPr b="1" lang="es-PE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a manera de prevenir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1447920"/>
            <a:ext cx="9144000" cy="838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0" y="2286000"/>
            <a:ext cx="9144000" cy="434340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66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Figura N° 5: Cinco categorías fundamentales de las capacidades humanas, que representan los resultados del aprendizaje con ejemplos de cada u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Resultados del Aprendizaje                  Ejemplo de actuación huma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                                                                 </a:t>
            </a: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posible mediante la capac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1. Información Verbal</a:t>
            </a: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1. Declara el preámbulo de la Constitu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Política del Per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 Habilidad Intelectual           2. Demostrar la forma de hacer lo sigu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1 Discriminación                - Distinguir entre las letras b y d impres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2 Concepto concreto         - Identificar la relación espacial “debajo”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“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delante”, “atrá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3 Concepto definido ó       - Clasificar los huesos utilizando una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abstracto                           definició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4 Regla o principio            - Demostrar que el agua cambia de estado 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los 100°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359892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ahoma"/>
              </a:rPr>
              <a:t>OBJETIVO 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280" y="2809440"/>
            <a:ext cx="727236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Discriminar algunos componentes esenciales de un modelo de Teoría integrativa del aprendiza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1066680"/>
            <a:ext cx="9144000" cy="91440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1905120"/>
            <a:ext cx="9144000" cy="403848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9144000" cy="63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... Continú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Resultados del Aprendizaje                  Ejemplo de actuación huma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                                                                 </a:t>
            </a: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posible mediante la capac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2.5 Solución de problemas     - Generar una regla o solución para pre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decir la lluvia, dadas las condiciones 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ubicación y terren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3. Estrategia Cognoscitiva</a:t>
            </a: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Originar un plan nuevo para una cirugía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de coraz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4. Actitud                                       La elección de la especialidad de residen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tado médico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5. Habilidad Motriz                        Utilizar los dedos de la mano pa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jecutar una oper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6021000"/>
            <a:ext cx="6659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Narrow"/>
              </a:rPr>
              <a:t>Figura 1:  Modelo de Estudio del Aprendizaje  E-O-R.                                              Revisado por J. Anicama (200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68600" y="1650960"/>
            <a:ext cx="2362320" cy="108108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O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Procesamiento</a:t>
            </a:r>
            <a:r>
              <a:rPr b="1" lang="es-E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e Inform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828720" y="1847880"/>
            <a:ext cx="566640" cy="490680"/>
          </a:xfrm>
          <a:prstGeom prst="rect">
            <a:avLst/>
          </a:prstGeom>
          <a:solidFill>
            <a:srgbClr val="00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724880" y="1795320"/>
            <a:ext cx="566640" cy="490680"/>
          </a:xfrm>
          <a:prstGeom prst="rect">
            <a:avLst/>
          </a:prstGeom>
          <a:solidFill>
            <a:srgbClr val="cce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0" y="3424320"/>
            <a:ext cx="2971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stímul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(experiencia educativ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943600" y="3367080"/>
            <a:ext cx="2819520" cy="68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Comportamientos abiertos y encubiert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984400" y="2971800"/>
            <a:ext cx="1511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rganism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410080" y="838080"/>
            <a:ext cx="241956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639720" y="4800600"/>
            <a:ext cx="94464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7440480" y="4840200"/>
            <a:ext cx="11336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1490760" y="2090880"/>
            <a:ext cx="944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13"/>
          <p:cNvSpPr/>
          <p:nvPr/>
        </p:nvSpPr>
        <p:spPr>
          <a:xfrm>
            <a:off x="5079960" y="2090880"/>
            <a:ext cx="2549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8007480" y="228600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5"/>
          <p:cNvSpPr/>
          <p:nvPr/>
        </p:nvSpPr>
        <p:spPr>
          <a:xfrm>
            <a:off x="8007480" y="4054320"/>
            <a:ext cx="0" cy="68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6"/>
          <p:cNvSpPr/>
          <p:nvPr/>
        </p:nvSpPr>
        <p:spPr>
          <a:xfrm flipV="1">
            <a:off x="8007480" y="1206000"/>
            <a:ext cx="0" cy="490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Line 17"/>
          <p:cNvSpPr/>
          <p:nvPr/>
        </p:nvSpPr>
        <p:spPr>
          <a:xfrm flipH="1">
            <a:off x="3757320" y="1206360"/>
            <a:ext cx="424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3757680" y="1206360"/>
            <a:ext cx="0" cy="392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1109520" y="2286000"/>
            <a:ext cx="0" cy="1081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1066680" y="4038120"/>
            <a:ext cx="302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8007480" y="5234040"/>
            <a:ext cx="0" cy="392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Line 22"/>
          <p:cNvSpPr/>
          <p:nvPr/>
        </p:nvSpPr>
        <p:spPr>
          <a:xfrm flipH="1">
            <a:off x="5928840" y="5626080"/>
            <a:ext cx="207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23"/>
          <p:cNvSpPr/>
          <p:nvPr/>
        </p:nvSpPr>
        <p:spPr>
          <a:xfrm flipH="1">
            <a:off x="1112760" y="5626080"/>
            <a:ext cx="4911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Line 24"/>
          <p:cNvSpPr/>
          <p:nvPr/>
        </p:nvSpPr>
        <p:spPr>
          <a:xfrm flipV="1">
            <a:off x="1112760" y="5135040"/>
            <a:ext cx="0" cy="490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3200400" y="5486400"/>
            <a:ext cx="2446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Retroaliment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d"/>
    <p:sndAc>
      <p:stSnd>
        <p:snd r:embed="rId1" name="AVIS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Line 2"/>
          <p:cNvSpPr/>
          <p:nvPr/>
        </p:nvSpPr>
        <p:spPr>
          <a:xfrm>
            <a:off x="1890720" y="4759200"/>
            <a:ext cx="227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304920" y="380880"/>
            <a:ext cx="8534160" cy="5678640"/>
            <a:chOff x="304920" y="380880"/>
            <a:chExt cx="8534160" cy="5678640"/>
          </a:xfrm>
        </p:grpSpPr>
        <p:sp>
          <p:nvSpPr>
            <p:cNvPr id="138" name="Text Box 4"/>
            <p:cNvSpPr/>
            <p:nvPr/>
          </p:nvSpPr>
          <p:spPr>
            <a:xfrm>
              <a:off x="3224160" y="380880"/>
              <a:ext cx="2498760" cy="4669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CONTROL EJECUTIV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5"/>
            <p:cNvSpPr/>
            <p:nvPr/>
          </p:nvSpPr>
          <p:spPr>
            <a:xfrm>
              <a:off x="6686640" y="380880"/>
              <a:ext cx="2152440" cy="46692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XPECTATIVA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2233440" y="1682640"/>
              <a:ext cx="2227320" cy="70020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GENERADOR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DE RESPUESTA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1343160" y="533520"/>
              <a:ext cx="519120" cy="2651040"/>
            </a:xfrm>
            <a:prstGeom prst="rect">
              <a:avLst/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Text Box 8"/>
            <p:cNvSpPr/>
            <p:nvPr/>
          </p:nvSpPr>
          <p:spPr>
            <a:xfrm>
              <a:off x="1343160" y="3429000"/>
              <a:ext cx="519120" cy="2630520"/>
            </a:xfrm>
            <a:prstGeom prst="rect">
              <a:avLst/>
            </a:prstGeom>
            <a:solidFill>
              <a:srgbClr val="ff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9"/>
            <p:cNvSpPr/>
            <p:nvPr/>
          </p:nvSpPr>
          <p:spPr>
            <a:xfrm>
              <a:off x="304920" y="2155680"/>
              <a:ext cx="519120" cy="23353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2233440" y="4405320"/>
              <a:ext cx="2227320" cy="700200"/>
            </a:xfrm>
            <a:prstGeom prst="rect">
              <a:avLst/>
            </a:prstGeom>
            <a:solidFill>
              <a:srgbClr val="cc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REGISTR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SENSO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Text Box 11"/>
            <p:cNvSpPr/>
            <p:nvPr/>
          </p:nvSpPr>
          <p:spPr>
            <a:xfrm>
              <a:off x="7205760" y="4405320"/>
              <a:ext cx="1633320" cy="92880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MEMORIA 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LARGO PLAZ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5202360" y="4405320"/>
              <a:ext cx="1484280" cy="915840"/>
            </a:xfrm>
            <a:prstGeom prst="rect">
              <a:avLst/>
            </a:prstGeom>
            <a:solidFill>
              <a:srgbClr val="ffff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MEMORIA A CORTO PLAZO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>
              <a:off x="4533840" y="4759200"/>
              <a:ext cx="520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 flipH="1">
              <a:off x="2010960" y="2038320"/>
              <a:ext cx="1494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971640" y="4051440"/>
              <a:ext cx="223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971640" y="2747880"/>
              <a:ext cx="223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>
              <a:off x="6761160" y="4641840"/>
              <a:ext cx="371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18"/>
            <p:cNvSpPr/>
            <p:nvPr/>
          </p:nvSpPr>
          <p:spPr>
            <a:xfrm flipH="1">
              <a:off x="6761160" y="4878360"/>
              <a:ext cx="371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19"/>
            <p:cNvSpPr/>
            <p:nvPr/>
          </p:nvSpPr>
          <p:spPr>
            <a:xfrm flipV="1">
              <a:off x="5945040" y="2274840"/>
              <a:ext cx="1800" cy="198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20"/>
            <p:cNvSpPr/>
            <p:nvPr/>
          </p:nvSpPr>
          <p:spPr>
            <a:xfrm flipH="1">
              <a:off x="4610160" y="2274840"/>
              <a:ext cx="13348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Line 21"/>
            <p:cNvSpPr/>
            <p:nvPr/>
          </p:nvSpPr>
          <p:spPr>
            <a:xfrm flipH="1">
              <a:off x="4610160" y="1919160"/>
              <a:ext cx="34862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22"/>
            <p:cNvSpPr/>
            <p:nvPr/>
          </p:nvSpPr>
          <p:spPr>
            <a:xfrm flipV="1">
              <a:off x="8096400" y="1918800"/>
              <a:ext cx="1440" cy="23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23"/>
            <p:cNvSpPr/>
            <p:nvPr/>
          </p:nvSpPr>
          <p:spPr>
            <a:xfrm>
              <a:off x="5202360" y="917640"/>
              <a:ext cx="144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24"/>
            <p:cNvSpPr/>
            <p:nvPr/>
          </p:nvSpPr>
          <p:spPr>
            <a:xfrm>
              <a:off x="3867120" y="917640"/>
              <a:ext cx="144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25"/>
            <p:cNvSpPr/>
            <p:nvPr/>
          </p:nvSpPr>
          <p:spPr>
            <a:xfrm>
              <a:off x="4533840" y="917640"/>
              <a:ext cx="180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Line 26"/>
            <p:cNvSpPr/>
            <p:nvPr/>
          </p:nvSpPr>
          <p:spPr>
            <a:xfrm>
              <a:off x="8394840" y="917640"/>
              <a:ext cx="144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>
              <a:off x="7058160" y="917640"/>
              <a:ext cx="144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8"/>
            <p:cNvSpPr/>
            <p:nvPr/>
          </p:nvSpPr>
          <p:spPr>
            <a:xfrm>
              <a:off x="7726320" y="917640"/>
              <a:ext cx="1800" cy="4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212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Figura 2: Modelo usado en teorías de Procesamiento de Información: Robert  Gagne, 197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  <p:sndAc>
      <p:stSnd>
        <p:snd r:embed="rId1" name="DIAP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 rot="5314800">
            <a:off x="2169000" y="2174040"/>
            <a:ext cx="766800" cy="5335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3"/>
          <p:cNvSpPr/>
          <p:nvPr/>
        </p:nvSpPr>
        <p:spPr>
          <a:xfrm rot="5314800">
            <a:off x="3882960" y="4654440"/>
            <a:ext cx="618840" cy="6062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4"/>
          <p:cNvSpPr/>
          <p:nvPr/>
        </p:nvSpPr>
        <p:spPr>
          <a:xfrm rot="5314800">
            <a:off x="5180040" y="6020640"/>
            <a:ext cx="538200" cy="53676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5"/>
          <p:cNvSpPr/>
          <p:nvPr/>
        </p:nvSpPr>
        <p:spPr>
          <a:xfrm rot="5314800">
            <a:off x="3313440" y="4077360"/>
            <a:ext cx="614520" cy="53676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6"/>
          <p:cNvSpPr/>
          <p:nvPr/>
        </p:nvSpPr>
        <p:spPr>
          <a:xfrm rot="5314800">
            <a:off x="2743560" y="3275280"/>
            <a:ext cx="763560" cy="4604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7"/>
          <p:cNvSpPr/>
          <p:nvPr/>
        </p:nvSpPr>
        <p:spPr>
          <a:xfrm rot="5314800">
            <a:off x="1596960" y="1069560"/>
            <a:ext cx="843120" cy="53208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8"/>
          <p:cNvSpPr/>
          <p:nvPr/>
        </p:nvSpPr>
        <p:spPr>
          <a:xfrm rot="5314800">
            <a:off x="4493160" y="5412240"/>
            <a:ext cx="538200" cy="5335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514440" y="27000"/>
          <a:ext cx="8305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27000"/>
                    <a:ext cx="8305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200" y="6022800"/>
            <a:ext cx="5329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 Narrow"/>
              </a:rPr>
              <a:t>Figura 3: Fases de un acto de aprendizaje y los procesos asociados con ello. Robert Gagné (197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11"/>
          <p:cNvSpPr/>
          <p:nvPr/>
        </p:nvSpPr>
        <p:spPr>
          <a:xfrm rot="5314800">
            <a:off x="1139760" y="1069560"/>
            <a:ext cx="843120" cy="53208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2"/>
          <p:cNvSpPr/>
          <p:nvPr/>
        </p:nvSpPr>
        <p:spPr>
          <a:xfrm rot="5314800">
            <a:off x="1864080" y="2097720"/>
            <a:ext cx="766800" cy="5335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13"/>
          <p:cNvSpPr/>
          <p:nvPr/>
        </p:nvSpPr>
        <p:spPr>
          <a:xfrm rot="5314800">
            <a:off x="2439000" y="3275640"/>
            <a:ext cx="763560" cy="46008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4"/>
          <p:cNvSpPr/>
          <p:nvPr/>
        </p:nvSpPr>
        <p:spPr>
          <a:xfrm rot="5314800">
            <a:off x="3161520" y="4001400"/>
            <a:ext cx="614160" cy="53640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15"/>
          <p:cNvSpPr/>
          <p:nvPr/>
        </p:nvSpPr>
        <p:spPr>
          <a:xfrm rot="5314800">
            <a:off x="3882960" y="4654440"/>
            <a:ext cx="618840" cy="60624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16"/>
          <p:cNvSpPr/>
          <p:nvPr/>
        </p:nvSpPr>
        <p:spPr>
          <a:xfrm rot="5314800">
            <a:off x="4721760" y="5412240"/>
            <a:ext cx="538200" cy="53352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17"/>
          <p:cNvSpPr/>
          <p:nvPr/>
        </p:nvSpPr>
        <p:spPr>
          <a:xfrm rot="5314800">
            <a:off x="5333040" y="6020640"/>
            <a:ext cx="538200" cy="536400"/>
          </a:xfrm>
          <a:prstGeom prst="pi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71280" y="1628280"/>
            <a:ext cx="359892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Tahoma"/>
              </a:rPr>
              <a:t>OBJETIVO 2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280" y="2809440"/>
            <a:ext cx="727236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ahoma"/>
              </a:rPr>
              <a:t>Discriminar y utilizar los diferentes tipos de resultados del proceso enseñanza - aprendiza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260280"/>
            <a:ext cx="914400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Según Gagné los resultados del proceso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enseñanza-aprendizaje, pued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es-ES_tradnl" sz="3200" spc="-1" strike="noStrike">
                <a:solidFill>
                  <a:srgbClr val="333399"/>
                </a:solidFill>
                <a:latin typeface="Times New Roman"/>
              </a:rPr>
              <a:t>clasificarse en cinco tip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Monotype Sorts"/>
                <a:ea typeface="Monotype Sorts"/>
              </a:rPr>
              <a:t></a:t>
            </a:r>
            <a:r>
              <a:rPr b="1" lang="es-ES_tradnl" sz="2800" spc="-1" strike="noStrike">
                <a:solidFill>
                  <a:srgbClr val="800000"/>
                </a:solidFill>
                <a:latin typeface="Tahoma"/>
              </a:rPr>
              <a:t>1.  Información Verb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e implica que en el cerebro del sujeto, ocurren hasta 5 tipos de aprendizaj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Reacción ante una señal por asociación                     estímulo-respues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Aprendizaje estímulo-respuesta por reforzamiento difer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ncaden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Aprendizaje por asociación verb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243080" indent="-58104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Aprendizaje de discriminación (si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380880" y="914400"/>
            <a:ext cx="8534520" cy="51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2560" indent="-579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Tahoma"/>
              </a:rPr>
              <a:t>2.  Habilidades Intelec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ste tipo de aprendizaje implica a su vez que en el cerebro de los estudiantes ocurran, los siguientes tipos de aprendizaje cada vez  mas complej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Un aprendizaje de discriminación (aprendizaje tipo quint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Un aprendizaje de conceptos concr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Un aprendizaje de conceptos abstrac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Un aprendizaje de reglas o princip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52560" indent="-579600">
              <a:lnSpc>
                <a:spcPct val="100000"/>
              </a:lnSpc>
              <a:buClr>
                <a:srgbClr val="800000"/>
              </a:buClr>
              <a:buFont typeface="Symbol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Un aprendizaje de solución de proble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4 Marcador de pie de página"/>
          <p:cNvSpPr/>
          <p:nvPr/>
        </p:nvSpPr>
        <p:spPr>
          <a:xfrm>
            <a:off x="307188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8-2009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304920" y="0"/>
            <a:ext cx="853416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Tahoma"/>
              </a:rPr>
              <a:t>3.  Estrategias cognoscitiv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Son   las  habilidades   más  complejas.    Son   destrezas  organizadas internamente y que gobiernan el aprendizaje propio de cada sujeto;  sus recuerdos,  su conducta pensante,  su estilo de pensar,  su estrategia cognitiva y  su creativi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 Narrow"/>
              </a:rPr>
              <a:t>Ejemplo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.-    Cómo enfrentamos una tarea de aprendizaje: ¿Qué estrategia usamos para solucionar problemas:  Inductiva o deductiva?   ¿Qué estilo de pensamiento estamos desarrollando?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El  nivel  de  estrategias  cognitivas implica que en el cerebro del  sujeto,  se  da  un  aprendizaje  nuevo,  de  solución  de problemas también nuev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d"/>
    <p:sndAc>
      <p:stSnd>
        <p:snd r:embed="rId1" name="AVIS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9T15:59:28Z</dcterms:created>
  <dc:creator>Janicama</dc:creator>
  <dc:description/>
  <dc:language>en-US</dc:language>
  <cp:lastModifiedBy>aula 402</cp:lastModifiedBy>
  <dcterms:modified xsi:type="dcterms:W3CDTF">2009-05-29T22:20:47Z</dcterms:modified>
  <cp:revision>12</cp:revision>
  <dc:subject/>
  <dc:title>UNIVERSIDAD RICARDO PALMA ESCUELA DE POST GRADO MAESTRÍA EN DOCENCIA UNIVERSITARIA</dc:title>
</cp:coreProperties>
</file>